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0.pct" ContentType="image/x-pict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B085D-395E-4526-AD51-00C2F3174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AFB63-94F5-4036-AC62-232011875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166AE-D795-4D1B-8623-AE6E27B078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5C1-ADA6-4F35-921F-AF241F49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15B-1A40-476D-9B3B-94486AD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A36-D017-478E-8020-D1130904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37F-F401-493F-A6D0-934AC854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CBD5-9B05-438F-9B20-CCB9C934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19A4-D633-41F5-9C74-CA08A86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10E7-6F2F-40A6-B85B-850C7B3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9E6E-A063-4E42-B9C7-E5AB219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F0CA-47E4-4543-ACF3-9C389DA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E65-F884-4735-B705-F9850275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6EA-95DF-4497-83B9-CDB724A5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CFC-824A-4F12-A48B-8747947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DE1-4CA2-400D-806D-E8BAD5F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952-C305-4DE8-9C9E-A79C23A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710-C3DB-4043-844A-C35874D9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1D1-4C14-4C98-8CD1-FBDAB1C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CA5A-5E8D-4FA4-8C1E-88808027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64F9-E97D-4756-B2F8-ED9CB547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7028-7C3C-42C9-8BBD-E809E914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6F05-CD6B-49C6-BA78-10084F57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3C43-740A-4AF2-ACB8-C7D5B2E7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5BEA-386D-41D6-9D12-D2F2B48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E7D-B125-4567-B3B5-EE593CF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F9B7-51B4-4205-A0DC-E7FDC2B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C7FC-B8F4-4041-B84F-0BA3080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1159-9690-4F04-8570-9EC712A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4C94-265B-41C4-BF20-D7F71DA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5BE9-944A-47D8-AA2F-2492441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853C-8C66-47C5-A3FE-8E60C55A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DB6B-8CC0-44E9-B772-C6063A79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2A1-6C9E-4840-8193-BD688697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E5F-5E66-48F5-923E-7FB64C1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9EF-04C7-43E3-BDB6-EBCB54A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6D3-11BD-45F4-BE9A-8B27124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30A-0C47-41A1-BFD7-DEEF500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A7C-1CE3-48B6-84CE-3D0B554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C2650-33BE-4FA6-A448-ECFEBBADA04A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5FE16-B282-4653-A86B-89A42ED7026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F6B4B-A887-4D37-B176-B2A04F1B4CDA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3D0BB-EF3D-45EC-A95B-4B9B4E5C96B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94B16-9253-49B1-B305-EDCDCAD14C9C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1B26-D4A5-4E35-A890-FDA0889C026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0800" y="4154400"/>
            <a:ext cx="75420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The Building Blocks of Sentenc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0800" y="5230800"/>
            <a:ext cx="754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6" name="Picture 3" descr="parts of speech.gif"/>
          <p:cNvPicPr/>
          <p:nvPr/>
        </p:nvPicPr>
        <p:blipFill>
          <a:blip r:embed="rId2"/>
          <a:stretch/>
        </p:blipFill>
        <p:spPr>
          <a:xfrm>
            <a:off x="820800" y="4419720"/>
            <a:ext cx="6553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_x0010_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Noun -is the name of a person, place, thing, or idea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John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is Tal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name John is the name of a perso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noun- can replace a noun or another pronou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He, She, They, I, You, We 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9" name="Picture 3" descr="klec2003-c250.gif"/>
          <p:cNvPicPr/>
          <p:nvPr/>
        </p:nvPicPr>
        <p:blipFill>
          <a:blip r:embed="rId2"/>
          <a:stretch/>
        </p:blipFill>
        <p:spPr>
          <a:xfrm>
            <a:off x="7315200" y="2514600"/>
            <a:ext cx="1273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3. Verb -express actions, events, or states of being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Ana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playing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piano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Verb= Play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487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4. Adjectives =modifies a noun or a pronoun by describing, identifying, or quantifying word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 : Sally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happy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on her birthday part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djective: happ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587760" y="3417840"/>
            <a:ext cx="32702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5. Adverb -can modify a verb, an adjective, another adverb, a phrase, or a clause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The seamstres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quickly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made the mourning cloth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dverb: quickl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8" name="Picture 3" descr="6149-Elderly-Seamstress-Woman-Sewing-A-Dress-Clipart-Picture.jpg"/>
          <p:cNvPicPr/>
          <p:nvPr/>
        </p:nvPicPr>
        <p:blipFill>
          <a:blip r:embed="rId2"/>
          <a:stretch/>
        </p:blipFill>
        <p:spPr>
          <a:xfrm>
            <a:off x="4038480" y="3359160"/>
            <a:ext cx="3359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6. A preposition links nouns, pronouns and phrases to other words in a sentence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The book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tabl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position: 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1" name="Picture 3" descr="u12273537.jpg"/>
          <p:cNvPicPr/>
          <p:nvPr/>
        </p:nvPicPr>
        <p:blipFill>
          <a:blip r:embed="rId2"/>
          <a:stretch/>
        </p:blipFill>
        <p:spPr>
          <a:xfrm>
            <a:off x="3886200" y="3581280"/>
            <a:ext cx="32767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7. Conjunction-You can use a conjunction to link words, phrases, and claus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I ate the pizza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pasta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njunction: an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4" name="Picture 3" descr="pizza clip art.jpg"/>
          <p:cNvPicPr/>
          <p:nvPr/>
        </p:nvPicPr>
        <p:blipFill>
          <a:blip r:embed="rId2"/>
          <a:stretch/>
        </p:blipFill>
        <p:spPr>
          <a:xfrm>
            <a:off x="4114800" y="3352680"/>
            <a:ext cx="32004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8. interjection is a word added to a sentence to convey emotion. It is not grammatically related to any other part of the sentenc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Oh no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, I forgot that the exam was toda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nterjection: Oh no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7" name="Picture 3" descr="stress.jpg"/>
          <p:cNvPicPr/>
          <p:nvPr/>
        </p:nvPicPr>
        <p:blipFill>
          <a:blip r:embed="rId2"/>
          <a:stretch/>
        </p:blipFill>
        <p:spPr>
          <a:xfrm>
            <a:off x="4495680" y="3809880"/>
            <a:ext cx="2667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45:54Z</dcterms:created>
  <dc:creator>lorelle</dc:creator>
  <dc:description/>
  <dc:language>en-US</dc:language>
  <cp:lastModifiedBy>lorelle</cp:lastModifiedBy>
  <dcterms:modified xsi:type="dcterms:W3CDTF">2010-09-20T03:49:23Z</dcterms:modified>
  <cp:revision>7</cp:revision>
  <dc:subject/>
  <dc:title>The Building Blocks of Sentences</dc:title>
</cp:coreProperties>
</file>